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AF8-6C49-402E-B4A0-CAFC6CE7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5C2-7E9F-45E3-9519-608E4163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044-2D80-436E-B4CB-0E68BD91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9C9-D58D-47A9-93B9-2C2720D8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197D-889D-4AE4-81A5-F763DCFA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15D3-F6AA-4B52-9E00-84A76434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7CB5-5E9C-47EA-8263-87865EE6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62D2-989C-4FCA-AA71-21031E3E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A03C-CD2D-47C7-A624-189D8C6C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4C03-B1F7-4778-B70B-149AE139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9AE8-EA92-4A5E-87F9-5B7CEC32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8B8-8425-4451-AA3F-18E47C63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29B2-163F-45E2-92EB-B62F9A3E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A70A-F6A3-46C9-AEDF-E88DBEEC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57F1-3A5D-4076-8C58-3CA1EF52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A459-0F52-445B-889F-41244811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CB8C-C183-4E96-B75B-6F8B02A5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90DC5-7D21-4B9F-B700-6C38463F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23E08-A0EC-45D2-8440-E741FA84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B497D-AE97-4C3A-B535-36AAA57C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2048E-9F56-4F11-A235-FFF1AFE4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FD9A8-6295-40F6-A0B7-1FDA54F6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196-3783-4860-80B3-3B5E5A6F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31C15-B687-4097-8ED8-32460697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E4898-8340-4350-9337-53C54B63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81AAE-C296-48F3-AD9F-7DF3E52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08F7D-CB44-4709-902A-2C3B1205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B6238-351B-46B5-BB2E-2607AFB3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73F1E-E5BD-4CB6-A7B8-3719DE9A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CD368-DFE1-4916-8FC8-E89611FA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C063-ECA9-4AA0-8CF8-EDD24C91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B17C8-04DE-4A13-9F90-2F62CE58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B22B-B904-48EA-A739-E275CA72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D2B-9C19-441A-AECE-99F44EC5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95A8-B5BB-47FC-8492-DDB4BD9C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9C065-3088-40EB-BB2A-D94AAF74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A36E8-4ECB-42BC-832B-5D728C36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1DDA5-DDFF-471F-AFD7-777D95E8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7E45-358C-4C49-9EAC-66FAF781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2F06-9C80-44C1-A541-B60DE439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AD92-1EE6-4E79-A92D-D685B7F2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6392C-EA16-4D5B-B34C-EB0AE722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9E59-B652-408C-A340-FA1179FB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4DBAD-A260-43FF-A438-5D9D94A7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6A5-F9EC-49DD-BB4F-BAA4F178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AD0DE-85AF-42E9-98A4-16EB02A9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CA2A5-18F7-4458-8057-B2751E23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8FBDF-F8AC-489E-AF1F-09BD50BD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8654F-6795-4E82-85B4-A8E472A5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3540D-C284-46AA-AE36-709C29F9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452BB-ADE9-4784-9CAD-414080AB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4486D-3510-48B7-B732-FE205347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2FB16-7D2D-4A51-9ACD-D2BA2D69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DA215-5059-4E7A-AA25-5B75311F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D0158-00A0-4EF1-B0FD-B46238B8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660-6C80-41BE-8F7A-C0F9F1FC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38238-DED5-40C4-BF32-185F4983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92C7B-75B9-4FE5-BF0A-BAE4F0EB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8DA814-C2AA-4554-9CDA-D3325573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AF9BC-1F99-448A-BABE-0F47B736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AD216-4F57-498B-AE80-F0B2E822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EF8AC3-282F-4239-AE27-7099B1B4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3FE67-AA5A-40C4-B99A-5A2A73B4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3E321-16B9-4729-991C-4425EAA4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F8FF3-E646-411F-99FB-D2A92CDE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4E66D-9473-4883-83FC-DB98DE40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500-0BCD-419E-9FA7-68F796DE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3B96E-D496-45EF-A5FA-72587BE9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6264B-6D5B-4A08-8955-45AC76E0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E0858-5F36-4820-B89A-3CE81680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57AFA-CADC-4FB6-9CEB-0554C284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A47BF-E045-49D5-A2C9-32E0B861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E4AF7-3450-4072-96BA-E1675000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44042F-C985-4A27-9CF9-9F21DB9C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EBB26-936F-4808-B898-C7169F52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F1125-BE12-43DF-B716-0451C4A5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E9956B-0DC5-4D25-8D08-01976D48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6C3-7A79-4DA4-82E9-6A6D53F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E3BB4-070D-4A06-89D0-69EF5A7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6AA44-B50E-4EFD-B828-1E8CB0D7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A2D1F-6303-494C-885A-69DC6159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91347-43FB-4441-AB28-BD546507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83EE7-E31B-46F5-AF54-5DC53792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8F3-C8A8-4B61-950E-0658E837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9583-2488-435A-9CF1-2D21E14D4E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FB62-1C74-429D-8570-30A0ED3E58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376B-63F2-46CA-9181-B3184CE089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0270-E144-4EF0-A8B9-AD2B307E95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5303-F8AA-48D4-AC0A-292F7FDE72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6BF5-1797-4D6B-9D96-97F3329691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CFAE-8D6B-4785-9D73-C96D3D173F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4"/>
          <p:cNvSpPr txBox="1"/>
          <p:nvPr/>
        </p:nvSpPr>
        <p:spPr>
          <a:xfrm>
            <a:off x="1752480" y="2438280"/>
            <a:ext cx="5410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oup 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Bodoni MT Black"/>
              </a:rPr>
              <a:t>MINE LIFE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962160" cy="198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3657600" cy="19810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5"/>
          <p:cNvSpPr/>
          <p:nvPr/>
        </p:nvSpPr>
        <p:spPr>
          <a:xfrm>
            <a:off x="957600" y="3826440"/>
            <a:ext cx="738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ur innovative products have made major advancements in mining contr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d autom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 provide user-friendly systems, enabling higher operating efficiency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creased prod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MC designs, manufactures and commissions the electrical system fr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rt to finis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Bodoni MT Black"/>
              </a:rPr>
              <a:t>PHOSPHATE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5f6d"/>
                </a:solidFill>
                <a:latin typeface="Bodoni MT Black"/>
              </a:rPr>
              <a:t>COST OF MINING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The cost of </a:t>
            </a: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phosphate is about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43.0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572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65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Bodoni MT Black"/>
              </a:rPr>
              <a:t>MINE LIFE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2471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3429000" cy="24386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5"/>
          <p:cNvSpPr/>
          <p:nvPr/>
        </p:nvSpPr>
        <p:spPr>
          <a:xfrm>
            <a:off x="7200" y="4238640"/>
            <a:ext cx="913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chanism for mining phosphates nodules from the dee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bottom including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redge nets tied to a long endless rope suspended from both sides of a ship, the r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ing from one side of the ship to the deep sea-bottom with apparat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provided to pull the ro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from to another side of the ship, whereby phosphates nodul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collected by the dredge n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9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WordArt 4"/>
          <p:cNvSpPr txBox="1"/>
          <p:nvPr/>
        </p:nvSpPr>
        <p:spPr>
          <a:xfrm>
            <a:off x="1981080" y="1828800"/>
            <a:ext cx="48769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End!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8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Bodoni MT Black"/>
              </a:rPr>
              <a:t>PREPARED BY: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59984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Leynette Joy Lepaopao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Juan Antonio Fabriga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Ariane Jade Salvado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Down Ribbon 3"/>
          <p:cNvSpPr/>
          <p:nvPr/>
        </p:nvSpPr>
        <p:spPr>
          <a:xfrm>
            <a:off x="228600" y="5029200"/>
            <a:ext cx="8001000" cy="129528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21564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e4ad6"/>
                </a:solidFill>
                <a:latin typeface="Bodoni MT Black"/>
              </a:rPr>
              <a:t>THANK YOU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iley Face 4"/>
          <p:cNvSpPr/>
          <p:nvPr/>
        </p:nvSpPr>
        <p:spPr>
          <a:xfrm>
            <a:off x="6477120" y="304920"/>
            <a:ext cx="1981080" cy="1828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6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8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5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657600" cy="233532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6" descr=""/>
          <p:cNvPicPr/>
          <p:nvPr/>
        </p:nvPicPr>
        <p:blipFill>
          <a:blip r:embed="rId2"/>
          <a:stretch/>
        </p:blipFill>
        <p:spPr>
          <a:xfrm>
            <a:off x="-12600" y="103320"/>
            <a:ext cx="5022720" cy="11523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7"/>
          <p:cNvSpPr/>
          <p:nvPr/>
        </p:nvSpPr>
        <p:spPr>
          <a:xfrm>
            <a:off x="457200" y="3276720"/>
            <a:ext cx="3429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doni MT Black"/>
              </a:rPr>
              <a:t>MANGANESE  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3"/>
          <a:stretch/>
        </p:blipFill>
        <p:spPr>
          <a:xfrm>
            <a:off x="4724280" y="1143000"/>
            <a:ext cx="4075200" cy="2765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9"/>
          <p:cNvSpPr/>
          <p:nvPr/>
        </p:nvSpPr>
        <p:spPr>
          <a:xfrm>
            <a:off x="4572000" y="304920"/>
            <a:ext cx="41911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10" descr=""/>
          <p:cNvPicPr/>
          <p:nvPr/>
        </p:nvPicPr>
        <p:blipFill>
          <a:blip r:embed="rId4"/>
          <a:stretch/>
        </p:blipFill>
        <p:spPr>
          <a:xfrm>
            <a:off x="4359240" y="103320"/>
            <a:ext cx="5070600" cy="1152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5"/>
          <a:stretch/>
        </p:blipFill>
        <p:spPr>
          <a:xfrm>
            <a:off x="1905120" y="4648320"/>
            <a:ext cx="4724280" cy="22096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2"/>
          <p:cNvSpPr/>
          <p:nvPr/>
        </p:nvSpPr>
        <p:spPr>
          <a:xfrm>
            <a:off x="5029200" y="3200400"/>
            <a:ext cx="3048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Bodoni MT Black"/>
              </a:rPr>
              <a:t>COAL</a:t>
            </a: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Bodoni MT Black"/>
              </a:rPr>
              <a:t>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15" descr=""/>
          <p:cNvPicPr/>
          <p:nvPr/>
        </p:nvPicPr>
        <p:blipFill>
          <a:blip r:embed="rId6"/>
          <a:stretch/>
        </p:blipFill>
        <p:spPr>
          <a:xfrm>
            <a:off x="1695600" y="3456000"/>
            <a:ext cx="5070240" cy="11523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6"/>
          <p:cNvSpPr/>
          <p:nvPr/>
        </p:nvSpPr>
        <p:spPr>
          <a:xfrm>
            <a:off x="2286000" y="6248520"/>
            <a:ext cx="38862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doni MT Black"/>
              </a:rPr>
              <a:t>PHOSPHATE 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9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Bodoni MT Black"/>
              </a:rPr>
              <a:t>MANGANESE MINING</a:t>
            </a:r>
            <a:br>
              <a:rPr sz="36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324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176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77" dur="1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5f6d"/>
                </a:solidFill>
                <a:latin typeface="Bodoni MT Black"/>
              </a:rPr>
              <a:t>MANGANESE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Manganese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is a chemical element, designated by the symbol </a:t>
            </a: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Mn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. It has the atomic number 25. It is found as a free element in nature (often in combination with iron), and in many minerals. As a free element, manganese is a metal with important industrial metal alloy uses, particularly in stainless steel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0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21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21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500" autoRev="1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Bodoni MT Black"/>
              </a:rPr>
              <a:t>COST OF MIN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3.99 dollars is the cost in pounds for manganese</a:t>
            </a:r>
            <a:r>
              <a:rPr b="1" lang="en-US" sz="4400" spc="-1" strike="noStrike">
                <a:solidFill>
                  <a:srgbClr val="ff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51814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5f6d"/>
                </a:solidFill>
                <a:latin typeface="Bodoni MT Black"/>
              </a:rPr>
              <a:t>MINE LIFE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1143000" y="3886920"/>
            <a:ext cx="66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wana is a truck and shovel operation executed in open p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34720" y="4190760"/>
            <a:ext cx="850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cks from the mine deliver ore either directly to the crusher feed hopper or in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t capacity 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hopper for further size redu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67920" y="5028840"/>
            <a:ext cx="876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ject area is not pristine due to the impacts from tree felling, charcoal burn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 and burn agricultur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 exploration activities. The soils of the area are typical of those foun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tropical regions, being heavily leached, low in nutrients and of poor fert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60" dur="123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61" dur="123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6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63" dur="123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575f6d"/>
                </a:solidFill>
                <a:latin typeface="Bodoni MT Black"/>
              </a:rPr>
              <a:t>COAL</a:t>
            </a:r>
            <a:br>
              <a:rPr sz="5900"/>
            </a:b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5f6d"/>
                </a:solidFill>
                <a:latin typeface="Bodoni MT Black"/>
              </a:rPr>
              <a:t>COAL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al is a combustible black or brownish-black sedimentary rock composed mostly of carbon and hydrocarbons. It is the most abundant fossil fuel produced in the United States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Bodoni MT Black"/>
              </a:rPr>
              <a:t>COST OF MIN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pending on the quality 38 cents to $1.08.Coal is about 45 cents a pou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5790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05:21:05Z</dcterms:created>
  <dc:creator>-tadzspeed04-</dc:creator>
  <dc:description/>
  <dc:language>en-US</dc:language>
  <cp:lastModifiedBy>*</cp:lastModifiedBy>
  <dcterms:modified xsi:type="dcterms:W3CDTF">2003-02-04T21:26:48Z</dcterms:modified>
  <cp:revision>12</cp:revision>
  <dc:subject/>
  <dc:title>Manganese Mining </dc:title>
</cp:coreProperties>
</file>